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3.wmf" ContentType="image/x-wmf"/>
  <Override PartName="/ppt/media/image5.png" ContentType="image/png"/>
  <Override PartName="/ppt/media/image33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36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1.jpeg" ContentType="image/jpeg"/>
  <Override PartName="/ppt/media/image10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12.png" ContentType="image/png"/>
  <Override PartName="/ppt/media/image44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8.png" ContentType="image/png"/>
  <Override PartName="/ppt/media/image6.png" ContentType="image/png"/>
  <Override PartName="/ppt/media/image4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-36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384768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B1E4F3-C1D0-42D1-984D-42111BA6673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50760" y="71424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66EA-55AD-4CE4-B618-7B8978E1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4EAC-4BD5-459B-969D-CC4442A0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95B4-C33F-45BD-A153-EE539A7BC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2BC3-9B13-4344-8EC7-75A60784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C61B-E2C3-4E3D-828E-D44A544E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65BE-7159-4D98-8274-8FF95428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C05B-E05B-49E3-8DB6-E8B3F225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DF15-AF8F-4673-B2DB-F6A872D7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7F31-6E44-44BA-97D9-F365F52D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6D60-9C3D-4D32-8251-B2F6263E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DBD3-64B1-4708-9064-CF5ECD64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4130-3DDF-4CC8-ACDD-18E3833F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372B-7724-420A-B372-60A6FF9E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B512-BA27-4C64-B357-0E0FEC18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94E3-8FED-43DF-A812-361452D8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1D3D-9757-4420-97A7-2D8AA794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8E27-7E85-4744-BAF8-FC4F6B0E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61D2F-98D9-4EA8-97DA-9F69E607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53B3A-4529-4FFE-8A37-60B90550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4D7DF-26C5-4BB4-BAD9-6C65BFB4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FD057-BAB4-418E-9F7C-5B46A17A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DF53B-D0FC-4ED7-A38D-2D771D22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0F4B-9798-47EF-A0E3-F25DE3B9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00EEC-035F-4B1F-80A1-7D038623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8CF28-969E-4357-9A3F-F8EBBBF9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8D9E0-A326-4765-84A5-3EDCE46B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8AA01-9EFA-40CA-9971-1706132D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C4C69-B6DF-4A9E-A720-A0AB2731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42CA2-1865-4BBE-871D-85EE85E1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500E0-C8F2-4DFC-B436-ACCA64E7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D2552-A349-4586-AA3F-F537486B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29108-A41B-4704-ACD5-CDA87E1F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6350C-87FA-444B-A0D0-683E462F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E150-BBE6-42EC-82F4-9C56AE3F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ADA25-7541-4277-9CD8-53553514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8209E-AC1A-419E-BA80-5414C4B4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EFC4B-1DA0-41B3-84D8-EF8CD565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F6920-68F0-4330-9A6A-242BBA00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A37CE-6995-4979-A2A6-60169BCB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B19F0-54F1-4D19-A3D3-A2862C08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58BD1-0283-4209-9854-DBFA1721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C2DB0-62A3-40C3-86A8-B44653CC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EA102-61E9-4DCE-BFB9-EF48FE66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EF499-FDDC-4EB1-8062-BB032CC4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BA9A-F8F5-4884-ADF3-3FDDD3AC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D2696-FBB7-4D4F-9CBA-9A98BC4A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17ADB-1DD3-4255-998D-70870F7D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C8807-10C1-4B9F-81EB-8EA5CB27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431CA-4D01-4EDB-8FB5-83A84CCA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7EE4B-C9CE-4DE6-A88C-929BD6EB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0CA38-70DD-431F-BC23-5BA9A193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C12BA-7DA0-4F2B-A01E-140A6360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22FE0-9A0D-4746-A7F3-E017CCC1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27419-C734-46A1-B470-835B733D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1069D-7C4B-4A41-9C7A-E5D46DC3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F464-B8F2-4D94-A574-67153B53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20192-24EC-4240-A9EC-3968EA7F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7B45-6098-4FB1-8003-A6ED8736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F51B-B7CB-4C2E-A6E9-BAD66CC5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098D-B72B-40D4-9B01-ED63B88D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5716-AE90-4E0C-A4B4-47E302A9E2F6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手繪多邊形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手繪多邊形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手繪多邊形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手繪多邊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接點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F338-1A0C-4461-859A-CB3030825E8D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＞形箭號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32FE-72AE-46AA-9C8A-12BB1951436A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A696-9DE2-4D1A-8506-B81B0C13D286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手繪多邊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直角三角形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直線接點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＞形箭號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9FC6-4DDF-477E-98D6-3C5B67145EC3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6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衛生署統計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1.05.2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9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7692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9F26-5FF8-473E-9E75-35D39C27246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2F49-4A48-40AE-A43E-4F0519F2BA8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0" descr=""/>
          <p:cNvPicPr/>
          <p:nvPr/>
        </p:nvPicPr>
        <p:blipFill>
          <a:blip r:embed="rId1"/>
          <a:stretch/>
        </p:blipFill>
        <p:spPr>
          <a:xfrm>
            <a:off x="0" y="836640"/>
            <a:ext cx="8817120" cy="5695920"/>
          </a:xfrm>
          <a:prstGeom prst="rect">
            <a:avLst/>
          </a:prstGeom>
          <a:ln w="0">
            <a:noFill/>
          </a:ln>
        </p:spPr>
      </p:pic>
      <p:sp>
        <p:nvSpPr>
          <p:cNvPr id="27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6E03-ECD1-4417-B4D9-ABAF61C7D20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2" descr=""/>
          <p:cNvPicPr/>
          <p:nvPr/>
        </p:nvPicPr>
        <p:blipFill>
          <a:blip r:embed="rId1"/>
          <a:stretch/>
        </p:blipFill>
        <p:spPr>
          <a:xfrm>
            <a:off x="0" y="907920"/>
            <a:ext cx="8848800" cy="5334120"/>
          </a:xfrm>
          <a:prstGeom prst="rect">
            <a:avLst/>
          </a:prstGeom>
          <a:ln w="0">
            <a:noFill/>
          </a:ln>
        </p:spPr>
      </p:pic>
      <p:sp>
        <p:nvSpPr>
          <p:cNvPr id="276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36F7-A244-4DFB-A425-06BC9785D3F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0FDA-80F6-4A02-A793-AE36B433207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7EA5-6598-4D73-9C32-13804491A5E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9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8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28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077F-0A67-42B6-98DE-DD882C1F995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0DFF-FA14-4840-9C49-B207078A526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8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69040"/>
          </a:xfrm>
          <a:prstGeom prst="rect">
            <a:avLst/>
          </a:prstGeom>
          <a:ln w="0">
            <a:noFill/>
          </a:ln>
        </p:spPr>
      </p:pic>
      <p:sp>
        <p:nvSpPr>
          <p:cNvPr id="28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0A87-0628-4AAF-9C54-5E8EE70DD73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E815-FB12-441F-B8A3-CE6948A9D61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9" descr=""/>
          <p:cNvPicPr/>
          <p:nvPr/>
        </p:nvPicPr>
        <p:blipFill>
          <a:blip r:embed="rId1"/>
          <a:stretch/>
        </p:blipFill>
        <p:spPr>
          <a:xfrm>
            <a:off x="0" y="549360"/>
            <a:ext cx="8848800" cy="5705280"/>
          </a:xfrm>
          <a:prstGeom prst="rect">
            <a:avLst/>
          </a:prstGeom>
          <a:ln w="0">
            <a:noFill/>
          </a:ln>
        </p:spPr>
      </p:pic>
      <p:sp>
        <p:nvSpPr>
          <p:cNvPr id="28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2480-1E7B-45B6-AEE9-D201438C8DC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45F8-7B28-4A9A-868D-74D4A1068E2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" descr=""/>
          <p:cNvPicPr/>
          <p:nvPr/>
        </p:nvPicPr>
        <p:blipFill>
          <a:blip r:embed="rId1"/>
          <a:stretch/>
        </p:blipFill>
        <p:spPr>
          <a:xfrm>
            <a:off x="295200" y="620640"/>
            <a:ext cx="8848800" cy="5705640"/>
          </a:xfrm>
          <a:prstGeom prst="rect">
            <a:avLst/>
          </a:prstGeom>
          <a:ln w="0">
            <a:noFill/>
          </a:ln>
        </p:spPr>
      </p:pic>
      <p:sp>
        <p:nvSpPr>
          <p:cNvPr id="29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9A11-19F2-474C-BAB5-0094E0D9780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1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918040"/>
          </a:xfrm>
          <a:prstGeom prst="rect">
            <a:avLst/>
          </a:prstGeom>
          <a:ln w="0">
            <a:noFill/>
          </a:ln>
        </p:spPr>
      </p:pic>
      <p:sp>
        <p:nvSpPr>
          <p:cNvPr id="29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B222-D839-46FC-9126-7E8EDCBE76B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7E0B-650C-45D1-A105-37BDBCBDD6B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1"/>
          <a:stretch/>
        </p:blipFill>
        <p:spPr>
          <a:xfrm>
            <a:off x="0" y="549360"/>
            <a:ext cx="8848800" cy="5810040"/>
          </a:xfrm>
          <a:prstGeom prst="rect">
            <a:avLst/>
          </a:prstGeom>
          <a:ln w="0">
            <a:noFill/>
          </a:ln>
        </p:spPr>
      </p:pic>
      <p:sp>
        <p:nvSpPr>
          <p:cNvPr id="29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9571-061F-49AA-8422-4474759474F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6841-7212-4043-BE1B-648A803B3C6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0" y="620640"/>
            <a:ext cx="8388360" cy="5243760"/>
          </a:xfrm>
          <a:prstGeom prst="rect">
            <a:avLst/>
          </a:prstGeom>
          <a:ln w="0">
            <a:noFill/>
          </a:ln>
        </p:spPr>
      </p:pic>
      <p:pic>
        <p:nvPicPr>
          <p:cNvPr id="245" name="Rectangle 6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"/>
          <p:cNvPicPr/>
          <p:nvPr/>
        </p:nvPicPr>
        <p:blipFill>
          <a:blip r:embed="rId3"/>
          <a:stretch/>
        </p:blipFill>
        <p:spPr>
          <a:xfrm>
            <a:off x="2411280" y="5445000"/>
            <a:ext cx="4662720" cy="797040"/>
          </a:xfrm>
          <a:prstGeom prst="rect">
            <a:avLst/>
          </a:prstGeom>
          <a:ln w="0">
            <a:noFill/>
          </a:ln>
        </p:spPr>
      </p:pic>
      <p:sp>
        <p:nvSpPr>
          <p:cNvPr id="24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9566-F415-418C-96F6-0EBADAB0B50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2" descr=""/>
          <p:cNvPicPr/>
          <p:nvPr/>
        </p:nvPicPr>
        <p:blipFill>
          <a:blip r:embed="rId1"/>
          <a:stretch/>
        </p:blipFill>
        <p:spPr>
          <a:xfrm>
            <a:off x="147600" y="579600"/>
            <a:ext cx="8848800" cy="5705280"/>
          </a:xfrm>
          <a:prstGeom prst="rect">
            <a:avLst/>
          </a:prstGeom>
          <a:ln w="0">
            <a:noFill/>
          </a:ln>
        </p:spPr>
      </p:pic>
      <p:sp>
        <p:nvSpPr>
          <p:cNvPr id="300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7DD0-5C2D-4772-BB9F-CB72C8B62A4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A480-4A73-40BD-8983-A788C9C9DB0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8DEA-C684-4E55-82B4-CC1CEAA7158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8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207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0404-6E43-4BDC-96BA-9BA3641A01D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5694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574C-4123-4773-8820-FA280C59BE9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0" descr=""/>
          <p:cNvPicPr/>
          <p:nvPr/>
        </p:nvPicPr>
        <p:blipFill>
          <a:blip r:embed="rId1"/>
          <a:stretch/>
        </p:blipFill>
        <p:spPr>
          <a:xfrm>
            <a:off x="147600" y="736560"/>
            <a:ext cx="884880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5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41840"/>
          </a:xfrm>
          <a:prstGeom prst="rect">
            <a:avLst/>
          </a:prstGeom>
          <a:ln w="0">
            <a:noFill/>
          </a:ln>
        </p:spPr>
      </p:pic>
      <p:sp>
        <p:nvSpPr>
          <p:cNvPr id="30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E9CE-0F08-43CB-AB54-6B74B057B53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4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496000" cy="5597640"/>
          </a:xfrm>
          <a:prstGeom prst="rect">
            <a:avLst/>
          </a:prstGeom>
          <a:ln w="0">
            <a:noFill/>
          </a:ln>
        </p:spPr>
      </p:pic>
      <p:sp>
        <p:nvSpPr>
          <p:cNvPr id="31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4A27-7D0C-4D59-A9C1-41D0404D6ED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AFE6-56A9-461E-901B-AEE311306F6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3" descr=""/>
          <p:cNvPicPr/>
          <p:nvPr/>
        </p:nvPicPr>
        <p:blipFill>
          <a:blip r:embed="rId1"/>
          <a:stretch/>
        </p:blipFill>
        <p:spPr>
          <a:xfrm>
            <a:off x="0" y="620640"/>
            <a:ext cx="8848800" cy="5629320"/>
          </a:xfrm>
          <a:prstGeom prst="rect">
            <a:avLst/>
          </a:prstGeom>
          <a:ln w="0">
            <a:noFill/>
          </a:ln>
        </p:spPr>
      </p:pic>
      <p:sp>
        <p:nvSpPr>
          <p:cNvPr id="31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D156-1BC8-4A6C-9455-76757B0A23B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1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488360" cy="6105600"/>
          </a:xfrm>
          <a:prstGeom prst="rect">
            <a:avLst/>
          </a:prstGeom>
          <a:ln w="0">
            <a:noFill/>
          </a:ln>
        </p:spPr>
      </p:pic>
      <p:sp>
        <p:nvSpPr>
          <p:cNvPr id="31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272D-8D7D-465D-BC4A-B5076CFD31A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323A-A9E8-4B6E-A0BE-816724799FD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35344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4BD1-DC07-4ACE-B1E6-18FD10D46D8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47D6-8716-40F0-9D1F-1439B97EA13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0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920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/>
          <p:cNvPicPr/>
          <p:nvPr/>
        </p:nvPicPr>
        <p:blipFill>
          <a:blip r:embed="rId2"/>
          <a:stretch/>
        </p:blipFill>
        <p:spPr>
          <a:xfrm>
            <a:off x="0" y="620640"/>
            <a:ext cx="8388360" cy="52437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5484960" y="21096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慢性疾病死因占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年來事故傷害死因減幅最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1408-E446-4D32-BDE2-EF3D38F3D7F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711A-B3D3-48CA-8C4F-473150FBE7A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9" descr=""/>
          <p:cNvPicPr/>
          <p:nvPr/>
        </p:nvPicPr>
        <p:blipFill>
          <a:blip r:embed="rId1"/>
          <a:stretch/>
        </p:blipFill>
        <p:spPr>
          <a:xfrm>
            <a:off x="0" y="765000"/>
            <a:ext cx="8848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0DE2-7DD9-4030-B8FB-F0C24A36308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9" descr=""/>
          <p:cNvPicPr/>
          <p:nvPr/>
        </p:nvPicPr>
        <p:blipFill>
          <a:blip r:embed="rId1"/>
          <a:stretch/>
        </p:blipFill>
        <p:spPr>
          <a:xfrm>
            <a:off x="147600" y="727200"/>
            <a:ext cx="8848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2" descr=""/>
          <p:cNvPicPr/>
          <p:nvPr/>
        </p:nvPicPr>
        <p:blipFill>
          <a:blip r:embed="rId1"/>
          <a:stretch/>
        </p:blipFill>
        <p:spPr>
          <a:xfrm>
            <a:off x="195120" y="617400"/>
            <a:ext cx="8753760" cy="5629320"/>
          </a:xfrm>
          <a:prstGeom prst="rect">
            <a:avLst/>
          </a:prstGeom>
          <a:ln w="0">
            <a:noFill/>
          </a:ln>
        </p:spPr>
      </p:pic>
      <p:sp>
        <p:nvSpPr>
          <p:cNvPr id="32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A609-949F-49E1-A181-AAA874C2885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EE48-01C3-4C85-B74A-4F42C8A8894B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WordArt 3"/>
          <p:cNvSpPr txBox="1"/>
          <p:nvPr/>
        </p:nvSpPr>
        <p:spPr>
          <a:xfrm>
            <a:off x="2700360" y="1628640"/>
            <a:ext cx="424800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簡報完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敬請指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2"/>
          <a:stretch/>
        </p:blipFill>
        <p:spPr>
          <a:xfrm>
            <a:off x="0" y="15825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5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528A-D07F-4F82-8A01-DB0834D602A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tretch/>
        </p:blipFill>
        <p:spPr>
          <a:xfrm>
            <a:off x="0" y="15825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A271-1422-4DF8-9375-40BD8B92CDE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2"/>
          <a:stretch/>
        </p:blipFill>
        <p:spPr>
          <a:xfrm>
            <a:off x="612720" y="1503360"/>
            <a:ext cx="7916760" cy="3857760"/>
          </a:xfrm>
          <a:prstGeom prst="rect">
            <a:avLst/>
          </a:prstGeom>
          <a:ln w="0">
            <a:noFill/>
          </a:ln>
        </p:spPr>
      </p:pic>
      <p:sp>
        <p:nvSpPr>
          <p:cNvPr id="26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4174-05B7-4940-B1CC-77C0790EABB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612720" y="2106720"/>
            <a:ext cx="7916760" cy="3051000"/>
          </a:xfrm>
          <a:prstGeom prst="rect">
            <a:avLst/>
          </a:prstGeom>
          <a:ln w="0">
            <a:noFill/>
          </a:ln>
        </p:spPr>
      </p:pic>
      <p:sp>
        <p:nvSpPr>
          <p:cNvPr id="263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09B0-BF43-4D79-9E94-0C86F137791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C22C-A938-4EBE-9D89-75B99670E92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846B-061B-4DED-86DF-09E4CD4C2D5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"/>
          <p:cNvPicPr/>
          <p:nvPr/>
        </p:nvPicPr>
        <p:blipFill>
          <a:blip r:embed="rId1"/>
          <a:stretch/>
        </p:blipFill>
        <p:spPr>
          <a:xfrm>
            <a:off x="147600" y="687240"/>
            <a:ext cx="88488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92E2-3B28-4C8E-80CD-2DB4BE2F667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1887480" y="42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1"/>
          <a:stretch/>
        </p:blipFill>
        <p:spPr>
          <a:xfrm>
            <a:off x="152280" y="741240"/>
            <a:ext cx="88394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2:00Z</dcterms:created>
  <dc:creator>行政院衛生署</dc:creator>
  <dc:description> </dc:description>
  <cp:keywords>民國100年死因記者會簡報</cp:keywords>
  <dc:language>en-US</dc:language>
  <cp:lastModifiedBy>ASUS</cp:lastModifiedBy>
  <dcterms:modified xsi:type="dcterms:W3CDTF">2012-05-23T20:01:33Z</dcterms:modified>
  <cp:revision>463</cp:revision>
  <dc:subject>衛生署中英文網站</dc:subject>
  <dc:title>民國100年死因記者會簡報</dc:title>
</cp:coreProperties>
</file>